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DEA2-7D99-4DB8-843A-73020048F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ation for a fictitious school system currently using Follett/Spectrum Winnebago, with proposal to go to Book Systems Atriuum.  Based on stats and observations from Pembroke, 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9E4E-5F59-4F82-A66C-0B08BC49CE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Lucida Conso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F5ED-E243-4733-8CC1-14CFA4ED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49FD-7887-4770-9770-CAB6525A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0C4D-67CA-4F68-805A-1437CA55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F5CB-F779-428F-8992-37E074B5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8643-737B-4913-852A-23150986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0E29-3F86-4FEB-B1F3-5DBF6F34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B7CE-29CF-45E1-80F5-5ED54444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47DC-E9BF-42A7-9A0E-CEA8AC94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FDC3-CDC6-40C2-BE86-86F9ED04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E7AD-42CB-4DD8-8647-273EE255D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9873-0A70-47B7-BB97-7CE4E5BC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C898-43C0-4602-BFE6-A1D2015E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E1D5-3CE6-4BDF-A7BA-3AAF94F0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2320-7167-4142-97CE-796588FC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A7BF-A90E-47C7-A8AB-FDC05436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CF1F-5C81-4082-9C39-E6EE2A1F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B34E-16CC-48A6-8884-1796C080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15FE4-3A74-4EEE-8D0D-AFFC11BF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C85F7-709B-4AEA-889C-963C1342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31CBA-D15A-4991-8773-ADA262B4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CD413-7C7C-4CF6-92FC-88BE948E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60052-53C2-4F7C-8D44-940F697C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FC7-8DEC-4426-8267-0A75EFBC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A0D83-49E4-496D-B36A-88FC2F5D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3DF64-6797-4449-B602-CBCF5FEC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11218-2EE8-403D-B7A3-0A63E674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30EF4-BA74-43D5-80B2-AC3D706E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40A77-09F9-40AD-9EFB-AE92D3CE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FFE04-1F8F-4AD8-AA7F-1B80D4E7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7B4A2-523A-4948-92D7-0A7486080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D6A6B-9DFC-4D47-86E8-681C2FA9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07BC3-0DC8-4E10-9CD3-4376D199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AF317-7BA5-4218-B941-6923D840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556E-15F0-4FB9-AD4A-CDD51DDD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E27FE-E1BE-4922-847C-E68050E9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FFBFB-6642-4C27-BD1E-7117FA50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CCFB2-BED8-4813-B0C6-4442CCF3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A2B14-B154-4135-9AE7-21CF5AA6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7098D-874F-412C-A091-B59A50C7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29A42-EC62-4E90-B9DB-465CD1E2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E7558-02EC-493D-8446-4C212996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EA17C-9023-45AC-BBCE-4F5A3967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BB661-DBCE-4FFA-B0CA-F656668A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6054B-3AD5-4D87-8512-41247DB0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9F97-A72F-46D0-96BF-B02BFE9F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97054-5812-4DA0-9FF1-B300EA3C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DB719-57B6-443B-944D-AE1C421E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DF6F4-C6FC-40AC-BF6E-999416A6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9A5B1-6876-4DFD-8602-1EEA841E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7D531-16B9-4EF4-847A-9CE9FE30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284E8-E2A7-4789-810B-76764095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D6BB7-60D1-4A32-B74C-DA376E56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DCEBC-6760-4108-83F1-2A02690E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C343C-852E-455F-A8C3-92D46F60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E7FE0-DCA3-4842-B5DF-30DBFFA09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08D7-3E56-4AB0-8456-D0A8B513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9CE2F-44C2-4EC4-B3C2-9C76B2BF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56389-72D1-45AD-8424-7B75575EE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878CA-94D8-4B28-A36C-EFF25401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62906-13A0-4B62-905A-3CF74FB6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965DD-6114-4753-A15A-07AFAD92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4EC73-0485-483D-859A-B3070AE6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F3050-B723-47D6-BF0B-C86650E1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AEF48-C9CF-4308-B646-17E7D279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30283-1622-4CD2-965C-5127E163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9D9B3-726C-4B2F-8B43-6E5711F6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5A3-4538-428C-B0BC-A974CD55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FBB84-432C-4210-B36A-B8A45E9E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7675E-2D7B-48C2-927E-616A512B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FCAC2-3716-4E98-AEA5-63359FCF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5AD4F-DB21-4CB1-8538-8C804FF7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CBBA7-0A4B-418C-9EB2-969582B3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3B199-CED2-4319-807F-5FF1B215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26A10-803C-4511-BA4F-60BC5697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8D52F-5EB7-4F8B-B1EA-FBB9E680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B7756-E263-4C67-B678-24D1B938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B4E92-DF5C-4083-B711-DA1CCE17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B21-2E54-406B-9108-6ED47B9F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53547-F550-47BA-B654-BCF42039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3E26C-F01E-4F0F-BB52-7209045C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86734-2444-4A1F-B6F4-7DE742E1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D6A8E-DBAA-43E4-9669-7C7B9005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B5F2E-DEFE-47D6-91A8-9800F24C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70E18-6BF1-4457-B48A-CA394647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0A956-7C05-4D52-94F5-F7D7E303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F6A58-38E0-491A-A05F-10743ED2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E5473-4869-4150-AC33-F956D221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CF4E4-00F2-4246-8314-DE73E25A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C47C-A562-40A3-9D8E-B4312ADD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180800" y="274320"/>
            <a:ext cx="7497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70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A2ACD-8F89-4B30-A334-510E20C3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FF8CD-C6DC-41F6-9D9A-990D639B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BDB90-62BC-4326-9CDF-6914A39B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A4054-21E3-4819-AD38-1CD15DBF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1317240" y="3947040"/>
            <a:ext cx="722484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BF793-6A1C-42EF-9D77-A8D98E44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9480" y="17348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31724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19480" y="3947040"/>
            <a:ext cx="352548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FF6B0-A991-436D-9281-ED8DF70B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31724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76020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03160" y="17348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131724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76020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203160" y="3947040"/>
            <a:ext cx="2326320" cy="2019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254A7-2020-46E4-A787-2915BA50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842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7128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9414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4E92-5AE1-4F2A-9D6E-A7C5277B30E0}" type="slidenum"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6" name="Rectangle 20"/>
            <p:cNvGrpSpPr/>
            <p:nvPr/>
          </p:nvGrpSpPr>
          <p:grpSpPr>
            <a:xfrm>
              <a:off x="20880" y="0"/>
              <a:ext cx="57240" cy="6858000"/>
              <a:chOff x="20880" y="0"/>
              <a:chExt cx="57240" cy="6858000"/>
            </a:xfrm>
          </p:grpSpPr>
          <p:pic>
            <p:nvPicPr>
              <p:cNvPr id="7" name="Rectangl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0"/>
                <a:ext cx="57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" name=""/>
              <p:cNvSpPr/>
              <p:nvPr/>
            </p:nvSpPr>
            <p:spPr>
              <a:xfrm>
                <a:off x="34200" y="18000"/>
                <a:ext cx="3456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9" name="Rectangle 13"/>
            <p:cNvGrpSpPr/>
            <p:nvPr/>
          </p:nvGrpSpPr>
          <p:grpSpPr>
            <a:xfrm>
              <a:off x="0" y="0"/>
              <a:ext cx="41760" cy="6858000"/>
              <a:chOff x="0" y="0"/>
              <a:chExt cx="41760" cy="6858000"/>
            </a:xfrm>
          </p:grpSpPr>
          <p:pic>
            <p:nvPicPr>
              <p:cNvPr id="10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12" name="Rectangle 15"/>
            <p:cNvGrpSpPr/>
            <p:nvPr/>
          </p:nvGrpSpPr>
          <p:grpSpPr>
            <a:xfrm>
              <a:off x="52200" y="0"/>
              <a:ext cx="41760" cy="6858000"/>
              <a:chOff x="52200" y="0"/>
              <a:chExt cx="41760" cy="6858000"/>
            </a:xfrm>
          </p:grpSpPr>
          <p:pic>
            <p:nvPicPr>
              <p:cNvPr id="13" name="Rectangl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>
                <a:off x="676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15" name="Rectangle 16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16" name="Rectangl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18" name="Rectangle 17"/>
            <p:cNvGrpSpPr/>
            <p:nvPr/>
          </p:nvGrpSpPr>
          <p:grpSpPr>
            <a:xfrm>
              <a:off x="104400" y="0"/>
              <a:ext cx="41760" cy="6858000"/>
              <a:chOff x="104400" y="0"/>
              <a:chExt cx="41760" cy="6858000"/>
            </a:xfrm>
          </p:grpSpPr>
          <p:pic>
            <p:nvPicPr>
              <p:cNvPr id="19" name="Rectangl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" name=""/>
              <p:cNvSpPr/>
              <p:nvPr/>
            </p:nvSpPr>
            <p:spPr>
              <a:xfrm>
                <a:off x="1198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1" name="Rectangle 18"/>
            <p:cNvGrpSpPr/>
            <p:nvPr/>
          </p:nvGrpSpPr>
          <p:grpSpPr>
            <a:xfrm>
              <a:off x="119880" y="0"/>
              <a:ext cx="46800" cy="6858000"/>
              <a:chOff x="119880" y="0"/>
              <a:chExt cx="46800" cy="6858000"/>
            </a:xfrm>
          </p:grpSpPr>
          <p:pic>
            <p:nvPicPr>
              <p:cNvPr id="22" name="Rectangle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" name=""/>
              <p:cNvSpPr/>
              <p:nvPr/>
            </p:nvSpPr>
            <p:spPr>
              <a:xfrm>
                <a:off x="13716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4" name="Rectangle 19"/>
            <p:cNvGrpSpPr/>
            <p:nvPr/>
          </p:nvGrpSpPr>
          <p:grpSpPr>
            <a:xfrm>
              <a:off x="140760" y="0"/>
              <a:ext cx="41760" cy="6858000"/>
              <a:chOff x="140760" y="0"/>
              <a:chExt cx="41760" cy="6858000"/>
            </a:xfrm>
          </p:grpSpPr>
          <p:pic>
            <p:nvPicPr>
              <p:cNvPr id="25" name="Rectangle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" name=""/>
              <p:cNvSpPr/>
              <p:nvPr/>
            </p:nvSpPr>
            <p:spPr>
              <a:xfrm>
                <a:off x="1544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7" name="Rectangle 21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28" name="Rectangle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traight Connector 22"/>
          <p:cNvSpPr/>
          <p:nvPr/>
        </p:nvSpPr>
        <p:spPr>
          <a:xfrm>
            <a:off x="0" y="3579840"/>
            <a:ext cx="9144000" cy="1440"/>
          </a:xfrm>
          <a:prstGeom prst="line">
            <a:avLst/>
          </a:prstGeom>
          <a:ln w="6480">
            <a:solidFill>
              <a:srgbClr val="e0ed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grpSp>
        <p:nvGrpSpPr>
          <p:cNvPr id="67" name="Group 22"/>
          <p:cNvGrpSpPr/>
          <p:nvPr/>
        </p:nvGrpSpPr>
        <p:grpSpPr>
          <a:xfrm>
            <a:off x="19080" y="6765840"/>
            <a:ext cx="9124920" cy="92160"/>
            <a:chOff x="19080" y="6765840"/>
            <a:chExt cx="9124920" cy="92160"/>
          </a:xfrm>
        </p:grpSpPr>
        <p:grpSp>
          <p:nvGrpSpPr>
            <p:cNvPr id="68" name="Rectangle 24"/>
            <p:cNvGrpSpPr/>
            <p:nvPr/>
          </p:nvGrpSpPr>
          <p:grpSpPr>
            <a:xfrm>
              <a:off x="19080" y="6774840"/>
              <a:ext cx="9124920" cy="36720"/>
              <a:chOff x="19080" y="6774840"/>
              <a:chExt cx="9124920" cy="36720"/>
            </a:xfrm>
          </p:grpSpPr>
          <p:pic>
            <p:nvPicPr>
              <p:cNvPr id="69" name="Rectangle 24" descr=""/>
              <p:cNvPicPr/>
              <p:nvPr/>
            </p:nvPicPr>
            <p:blipFill>
              <a:blip r:embed="rId3"/>
              <a:stretch/>
            </p:blipFill>
            <p:spPr>
              <a:xfrm>
                <a:off x="19080" y="6774840"/>
                <a:ext cx="9124920" cy="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 rot="5400000">
                <a:off x="4576320" y="2247480"/>
                <a:ext cx="15120" cy="909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71" name="Rectangle 25"/>
            <p:cNvGrpSpPr/>
            <p:nvPr/>
          </p:nvGrpSpPr>
          <p:grpSpPr>
            <a:xfrm>
              <a:off x="19080" y="6765840"/>
              <a:ext cx="9124920" cy="32040"/>
              <a:chOff x="19080" y="6765840"/>
              <a:chExt cx="9124920" cy="32040"/>
            </a:xfrm>
          </p:grpSpPr>
          <p:pic>
            <p:nvPicPr>
              <p:cNvPr id="72" name="Rectangle 25" descr=""/>
              <p:cNvPicPr/>
              <p:nvPr/>
            </p:nvPicPr>
            <p:blipFill>
              <a:blip r:embed="rId4"/>
              <a:stretch/>
            </p:blipFill>
            <p:spPr>
              <a:xfrm>
                <a:off x="19080" y="6765840"/>
                <a:ext cx="9124920" cy="3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 rot="5400000">
                <a:off x="4580280" y="2235600"/>
                <a:ext cx="7560" cy="909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74" name="Rectangle 26"/>
            <p:cNvGrpSpPr/>
            <p:nvPr/>
          </p:nvGrpSpPr>
          <p:grpSpPr>
            <a:xfrm>
              <a:off x="19080" y="6788880"/>
              <a:ext cx="9124920" cy="32040"/>
              <a:chOff x="19080" y="6788880"/>
              <a:chExt cx="9124920" cy="32040"/>
            </a:xfrm>
          </p:grpSpPr>
          <p:pic>
            <p:nvPicPr>
              <p:cNvPr id="75" name="Rectangle 26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80" y="6788880"/>
                <a:ext cx="9124920" cy="3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/>
              <p:nvPr/>
            </p:nvSpPr>
            <p:spPr>
              <a:xfrm rot="5400000">
                <a:off x="4580280" y="2258640"/>
                <a:ext cx="7560" cy="909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77" name="Rectangle 27"/>
            <p:cNvGrpSpPr/>
            <p:nvPr/>
          </p:nvGrpSpPr>
          <p:grpSpPr>
            <a:xfrm>
              <a:off x="19080" y="6802560"/>
              <a:ext cx="9124920" cy="27720"/>
              <a:chOff x="19080" y="6802560"/>
              <a:chExt cx="9124920" cy="27720"/>
            </a:xfrm>
          </p:grpSpPr>
          <p:pic>
            <p:nvPicPr>
              <p:cNvPr id="78" name="Rectangle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9080" y="6802560"/>
                <a:ext cx="9124920" cy="2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 rot="5400000">
                <a:off x="4581720" y="2272680"/>
                <a:ext cx="4680" cy="909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80" name="Rectangle 28"/>
            <p:cNvGrpSpPr/>
            <p:nvPr/>
          </p:nvGrpSpPr>
          <p:grpSpPr>
            <a:xfrm>
              <a:off x="19080" y="6811920"/>
              <a:ext cx="9124920" cy="32040"/>
              <a:chOff x="19080" y="6811920"/>
              <a:chExt cx="9124920" cy="32040"/>
            </a:xfrm>
          </p:grpSpPr>
          <p:pic>
            <p:nvPicPr>
              <p:cNvPr id="81" name="Rectangle 28" descr=""/>
              <p:cNvPicPr/>
              <p:nvPr/>
            </p:nvPicPr>
            <p:blipFill>
              <a:blip r:embed="rId7"/>
              <a:stretch/>
            </p:blipFill>
            <p:spPr>
              <a:xfrm>
                <a:off x="19080" y="6811920"/>
                <a:ext cx="9124920" cy="3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"/>
              <p:cNvSpPr/>
              <p:nvPr/>
            </p:nvSpPr>
            <p:spPr>
              <a:xfrm rot="5400000">
                <a:off x="4580280" y="2281680"/>
                <a:ext cx="7560" cy="909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83" name="Rectangle 29"/>
            <p:cNvGrpSpPr/>
            <p:nvPr/>
          </p:nvGrpSpPr>
          <p:grpSpPr>
            <a:xfrm>
              <a:off x="19080" y="6821280"/>
              <a:ext cx="9124920" cy="27720"/>
              <a:chOff x="19080" y="6821280"/>
              <a:chExt cx="9124920" cy="27720"/>
            </a:xfrm>
          </p:grpSpPr>
          <p:pic>
            <p:nvPicPr>
              <p:cNvPr id="84" name="Rectangle 29" descr=""/>
              <p:cNvPicPr/>
              <p:nvPr/>
            </p:nvPicPr>
            <p:blipFill>
              <a:blip r:embed="rId8"/>
              <a:stretch/>
            </p:blipFill>
            <p:spPr>
              <a:xfrm>
                <a:off x="19080" y="6821280"/>
                <a:ext cx="9124920" cy="2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 rot="5400000">
                <a:off x="4580280" y="2289600"/>
                <a:ext cx="7560" cy="909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86" name="Rectangle 30"/>
            <p:cNvGrpSpPr/>
            <p:nvPr/>
          </p:nvGrpSpPr>
          <p:grpSpPr>
            <a:xfrm>
              <a:off x="19080" y="6825960"/>
              <a:ext cx="9124920" cy="32040"/>
              <a:chOff x="19080" y="6825960"/>
              <a:chExt cx="9124920" cy="32040"/>
            </a:xfrm>
          </p:grpSpPr>
          <p:pic>
            <p:nvPicPr>
              <p:cNvPr id="87" name="Rectangle 30" descr=""/>
              <p:cNvPicPr/>
              <p:nvPr/>
            </p:nvPicPr>
            <p:blipFill>
              <a:blip r:embed="rId9"/>
              <a:stretch/>
            </p:blipFill>
            <p:spPr>
              <a:xfrm>
                <a:off x="19080" y="6825960"/>
                <a:ext cx="9124920" cy="3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 rot="5400000">
                <a:off x="4580280" y="2297160"/>
                <a:ext cx="7560" cy="909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89" name="Rectangle 31"/>
            <p:cNvGrpSpPr/>
            <p:nvPr/>
          </p:nvGrpSpPr>
          <p:grpSpPr>
            <a:xfrm>
              <a:off x="19080" y="6779520"/>
              <a:ext cx="9124920" cy="32040"/>
              <a:chOff x="19080" y="6779520"/>
              <a:chExt cx="9124920" cy="32040"/>
            </a:xfrm>
          </p:grpSpPr>
          <p:pic>
            <p:nvPicPr>
              <p:cNvPr id="90" name="Rectangle 31" descr=""/>
              <p:cNvPicPr/>
              <p:nvPr/>
            </p:nvPicPr>
            <p:blipFill>
              <a:blip r:embed="rId10"/>
              <a:stretch/>
            </p:blipFill>
            <p:spPr>
              <a:xfrm>
                <a:off x="19080" y="6779520"/>
                <a:ext cx="9124920" cy="32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 rot="5400000">
                <a:off x="4580280" y="2250720"/>
                <a:ext cx="7560" cy="909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842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7128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9414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68544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12552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6327720" y="6508800"/>
            <a:ext cx="2130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E27E-702C-4688-8F6E-D6BC3B4D1F9B}" type="slidenum"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134" name="Rectangle 20"/>
            <p:cNvGrpSpPr/>
            <p:nvPr/>
          </p:nvGrpSpPr>
          <p:grpSpPr>
            <a:xfrm>
              <a:off x="20880" y="0"/>
              <a:ext cx="57240" cy="6858000"/>
              <a:chOff x="20880" y="0"/>
              <a:chExt cx="57240" cy="6858000"/>
            </a:xfrm>
          </p:grpSpPr>
          <p:pic>
            <p:nvPicPr>
              <p:cNvPr id="135" name="Rectangl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0"/>
                <a:ext cx="57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34200" y="18000"/>
                <a:ext cx="3456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137" name="Rectangle 13"/>
            <p:cNvGrpSpPr/>
            <p:nvPr/>
          </p:nvGrpSpPr>
          <p:grpSpPr>
            <a:xfrm>
              <a:off x="0" y="0"/>
              <a:ext cx="41760" cy="6858000"/>
              <a:chOff x="0" y="0"/>
              <a:chExt cx="41760" cy="6858000"/>
            </a:xfrm>
          </p:grpSpPr>
          <p:pic>
            <p:nvPicPr>
              <p:cNvPr id="138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140" name="Rectangle 15"/>
            <p:cNvGrpSpPr/>
            <p:nvPr/>
          </p:nvGrpSpPr>
          <p:grpSpPr>
            <a:xfrm>
              <a:off x="52200" y="0"/>
              <a:ext cx="41760" cy="6858000"/>
              <a:chOff x="52200" y="0"/>
              <a:chExt cx="41760" cy="6858000"/>
            </a:xfrm>
          </p:grpSpPr>
          <p:pic>
            <p:nvPicPr>
              <p:cNvPr id="141" name="Rectangl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676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143" name="Rectangle 16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144" name="Rectangl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146" name="Rectangle 17"/>
            <p:cNvGrpSpPr/>
            <p:nvPr/>
          </p:nvGrpSpPr>
          <p:grpSpPr>
            <a:xfrm>
              <a:off x="104400" y="0"/>
              <a:ext cx="41760" cy="6858000"/>
              <a:chOff x="104400" y="0"/>
              <a:chExt cx="41760" cy="6858000"/>
            </a:xfrm>
          </p:grpSpPr>
          <p:pic>
            <p:nvPicPr>
              <p:cNvPr id="147" name="Rectangl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1198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149" name="Rectangle 18"/>
            <p:cNvGrpSpPr/>
            <p:nvPr/>
          </p:nvGrpSpPr>
          <p:grpSpPr>
            <a:xfrm>
              <a:off x="119880" y="0"/>
              <a:ext cx="46800" cy="6858000"/>
              <a:chOff x="119880" y="0"/>
              <a:chExt cx="46800" cy="6858000"/>
            </a:xfrm>
          </p:grpSpPr>
          <p:pic>
            <p:nvPicPr>
              <p:cNvPr id="150" name="Rectangle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" name=""/>
              <p:cNvSpPr/>
              <p:nvPr/>
            </p:nvSpPr>
            <p:spPr>
              <a:xfrm>
                <a:off x="13716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152" name="Rectangle 19"/>
            <p:cNvGrpSpPr/>
            <p:nvPr/>
          </p:nvGrpSpPr>
          <p:grpSpPr>
            <a:xfrm>
              <a:off x="140760" y="0"/>
              <a:ext cx="41760" cy="6858000"/>
              <a:chOff x="140760" y="0"/>
              <a:chExt cx="41760" cy="6858000"/>
            </a:xfrm>
          </p:grpSpPr>
          <p:pic>
            <p:nvPicPr>
              <p:cNvPr id="153" name="Rectangle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1544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155" name="Rectangle 21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156" name="Rectangle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</p:grpSp>
      <p:sp>
        <p:nvSpPr>
          <p:cNvPr id="158" name="Straight Connector 22"/>
          <p:cNvSpPr/>
          <p:nvPr/>
        </p:nvSpPr>
        <p:spPr>
          <a:xfrm>
            <a:off x="1322280" y="4419720"/>
            <a:ext cx="7315200" cy="1440"/>
          </a:xfrm>
          <a:prstGeom prst="line">
            <a:avLst/>
          </a:prstGeom>
          <a:ln w="6480">
            <a:solidFill>
              <a:srgbClr val="e0ed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842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7128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9414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8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9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F00B-0256-4147-A2C1-986AFBB2511C}" type="slidenum"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201" name="Rectangle 20"/>
            <p:cNvGrpSpPr/>
            <p:nvPr/>
          </p:nvGrpSpPr>
          <p:grpSpPr>
            <a:xfrm>
              <a:off x="20880" y="0"/>
              <a:ext cx="57240" cy="6858000"/>
              <a:chOff x="20880" y="0"/>
              <a:chExt cx="57240" cy="6858000"/>
            </a:xfrm>
          </p:grpSpPr>
          <p:pic>
            <p:nvPicPr>
              <p:cNvPr id="202" name="Rectangl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0"/>
                <a:ext cx="57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34200" y="18000"/>
                <a:ext cx="3456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04" name="Rectangle 13"/>
            <p:cNvGrpSpPr/>
            <p:nvPr/>
          </p:nvGrpSpPr>
          <p:grpSpPr>
            <a:xfrm>
              <a:off x="0" y="0"/>
              <a:ext cx="41760" cy="6858000"/>
              <a:chOff x="0" y="0"/>
              <a:chExt cx="41760" cy="6858000"/>
            </a:xfrm>
          </p:grpSpPr>
          <p:pic>
            <p:nvPicPr>
              <p:cNvPr id="205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07" name="Rectangle 15"/>
            <p:cNvGrpSpPr/>
            <p:nvPr/>
          </p:nvGrpSpPr>
          <p:grpSpPr>
            <a:xfrm>
              <a:off x="52200" y="0"/>
              <a:ext cx="41760" cy="6858000"/>
              <a:chOff x="52200" y="0"/>
              <a:chExt cx="41760" cy="6858000"/>
            </a:xfrm>
          </p:grpSpPr>
          <p:pic>
            <p:nvPicPr>
              <p:cNvPr id="208" name="Rectangl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676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10" name="Rectangle 16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211" name="Rectangl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13" name="Rectangle 17"/>
            <p:cNvGrpSpPr/>
            <p:nvPr/>
          </p:nvGrpSpPr>
          <p:grpSpPr>
            <a:xfrm>
              <a:off x="104400" y="0"/>
              <a:ext cx="41760" cy="6858000"/>
              <a:chOff x="104400" y="0"/>
              <a:chExt cx="41760" cy="6858000"/>
            </a:xfrm>
          </p:grpSpPr>
          <p:pic>
            <p:nvPicPr>
              <p:cNvPr id="214" name="Rectangl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198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16" name="Rectangle 18"/>
            <p:cNvGrpSpPr/>
            <p:nvPr/>
          </p:nvGrpSpPr>
          <p:grpSpPr>
            <a:xfrm>
              <a:off x="119880" y="0"/>
              <a:ext cx="46800" cy="6858000"/>
              <a:chOff x="119880" y="0"/>
              <a:chExt cx="46800" cy="6858000"/>
            </a:xfrm>
          </p:grpSpPr>
          <p:pic>
            <p:nvPicPr>
              <p:cNvPr id="217" name="Rectangle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"/>
              <p:cNvSpPr/>
              <p:nvPr/>
            </p:nvSpPr>
            <p:spPr>
              <a:xfrm>
                <a:off x="13716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19" name="Rectangle 19"/>
            <p:cNvGrpSpPr/>
            <p:nvPr/>
          </p:nvGrpSpPr>
          <p:grpSpPr>
            <a:xfrm>
              <a:off x="140760" y="0"/>
              <a:ext cx="41760" cy="6858000"/>
              <a:chOff x="140760" y="0"/>
              <a:chExt cx="41760" cy="6858000"/>
            </a:xfrm>
          </p:grpSpPr>
          <p:pic>
            <p:nvPicPr>
              <p:cNvPr id="220" name="Rectangle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1544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22" name="Rectangle 21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223" name="Rectangle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</p:grpSp>
      <p:sp>
        <p:nvSpPr>
          <p:cNvPr id="225" name="Straight Connector 22"/>
          <p:cNvSpPr/>
          <p:nvPr/>
        </p:nvSpPr>
        <p:spPr>
          <a:xfrm>
            <a:off x="1295280" y="2298600"/>
            <a:ext cx="7239240" cy="1800"/>
          </a:xfrm>
          <a:prstGeom prst="line">
            <a:avLst/>
          </a:prstGeom>
          <a:ln w="6480">
            <a:solidFill>
              <a:srgbClr val="e0ed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842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7128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9414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0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1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2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32A8-0EFE-426C-8CCB-BDE9EF486050}" type="slidenum"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268" name="Rectangle 23"/>
            <p:cNvGrpSpPr/>
            <p:nvPr/>
          </p:nvGrpSpPr>
          <p:grpSpPr>
            <a:xfrm>
              <a:off x="20880" y="0"/>
              <a:ext cx="57240" cy="6858000"/>
              <a:chOff x="20880" y="0"/>
              <a:chExt cx="57240" cy="6858000"/>
            </a:xfrm>
          </p:grpSpPr>
          <p:pic>
            <p:nvPicPr>
              <p:cNvPr id="269" name="Rectangle 23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0"/>
                <a:ext cx="57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>
                <a:off x="34200" y="18000"/>
                <a:ext cx="3456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71" name="Rectangle 24"/>
            <p:cNvGrpSpPr/>
            <p:nvPr/>
          </p:nvGrpSpPr>
          <p:grpSpPr>
            <a:xfrm>
              <a:off x="0" y="0"/>
              <a:ext cx="41760" cy="6858000"/>
              <a:chOff x="0" y="0"/>
              <a:chExt cx="41760" cy="6858000"/>
            </a:xfrm>
          </p:grpSpPr>
          <p:pic>
            <p:nvPicPr>
              <p:cNvPr id="272" name="Rectangle 24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3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74" name="Rectangle 25"/>
            <p:cNvGrpSpPr/>
            <p:nvPr/>
          </p:nvGrpSpPr>
          <p:grpSpPr>
            <a:xfrm>
              <a:off x="52200" y="0"/>
              <a:ext cx="41760" cy="6858000"/>
              <a:chOff x="52200" y="0"/>
              <a:chExt cx="41760" cy="6858000"/>
            </a:xfrm>
          </p:grpSpPr>
          <p:pic>
            <p:nvPicPr>
              <p:cNvPr id="275" name="Rectangl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"/>
              <p:cNvSpPr/>
              <p:nvPr/>
            </p:nvSpPr>
            <p:spPr>
              <a:xfrm>
                <a:off x="676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77" name="Rectangle 26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278" name="Rectangle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80" name="Rectangle 27"/>
            <p:cNvGrpSpPr/>
            <p:nvPr/>
          </p:nvGrpSpPr>
          <p:grpSpPr>
            <a:xfrm>
              <a:off x="104400" y="0"/>
              <a:ext cx="41760" cy="6858000"/>
              <a:chOff x="104400" y="0"/>
              <a:chExt cx="41760" cy="6858000"/>
            </a:xfrm>
          </p:grpSpPr>
          <p:pic>
            <p:nvPicPr>
              <p:cNvPr id="281" name="Rectangle 27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>
                <a:off x="1198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83" name="Rectangle 28"/>
            <p:cNvGrpSpPr/>
            <p:nvPr/>
          </p:nvGrpSpPr>
          <p:grpSpPr>
            <a:xfrm>
              <a:off x="119880" y="0"/>
              <a:ext cx="46800" cy="6858000"/>
              <a:chOff x="119880" y="0"/>
              <a:chExt cx="46800" cy="6858000"/>
            </a:xfrm>
          </p:grpSpPr>
          <p:pic>
            <p:nvPicPr>
              <p:cNvPr id="284" name="Rectangle 2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5" name=""/>
              <p:cNvSpPr/>
              <p:nvPr/>
            </p:nvSpPr>
            <p:spPr>
              <a:xfrm>
                <a:off x="13716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86" name="Rectangle 29"/>
            <p:cNvGrpSpPr/>
            <p:nvPr/>
          </p:nvGrpSpPr>
          <p:grpSpPr>
            <a:xfrm>
              <a:off x="140760" y="0"/>
              <a:ext cx="41760" cy="6858000"/>
              <a:chOff x="140760" y="0"/>
              <a:chExt cx="41760" cy="6858000"/>
            </a:xfrm>
          </p:grpSpPr>
          <p:pic>
            <p:nvPicPr>
              <p:cNvPr id="287" name="Rectangle 29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1544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289" name="Rectangle 30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290" name="Rectangle 30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842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7128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9414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3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4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5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5E05-31E9-4549-B076-76185117EE5F}" type="slidenum"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334" name="Rectangle 23"/>
            <p:cNvGrpSpPr/>
            <p:nvPr/>
          </p:nvGrpSpPr>
          <p:grpSpPr>
            <a:xfrm>
              <a:off x="20880" y="0"/>
              <a:ext cx="57240" cy="6858000"/>
              <a:chOff x="20880" y="0"/>
              <a:chExt cx="57240" cy="6858000"/>
            </a:xfrm>
          </p:grpSpPr>
          <p:pic>
            <p:nvPicPr>
              <p:cNvPr id="335" name="Rectangle 23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0"/>
                <a:ext cx="57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34200" y="18000"/>
                <a:ext cx="3456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337" name="Rectangle 24"/>
            <p:cNvGrpSpPr/>
            <p:nvPr/>
          </p:nvGrpSpPr>
          <p:grpSpPr>
            <a:xfrm>
              <a:off x="0" y="0"/>
              <a:ext cx="41760" cy="6858000"/>
              <a:chOff x="0" y="0"/>
              <a:chExt cx="41760" cy="6858000"/>
            </a:xfrm>
          </p:grpSpPr>
          <p:pic>
            <p:nvPicPr>
              <p:cNvPr id="338" name="Rectangle 24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340" name="Rectangle 25"/>
            <p:cNvGrpSpPr/>
            <p:nvPr/>
          </p:nvGrpSpPr>
          <p:grpSpPr>
            <a:xfrm>
              <a:off x="52200" y="0"/>
              <a:ext cx="41760" cy="6858000"/>
              <a:chOff x="52200" y="0"/>
              <a:chExt cx="41760" cy="6858000"/>
            </a:xfrm>
          </p:grpSpPr>
          <p:pic>
            <p:nvPicPr>
              <p:cNvPr id="341" name="Rectangl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676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343" name="Rectangle 26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344" name="Rectangle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5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346" name="Rectangle 27"/>
            <p:cNvGrpSpPr/>
            <p:nvPr/>
          </p:nvGrpSpPr>
          <p:grpSpPr>
            <a:xfrm>
              <a:off x="104400" y="0"/>
              <a:ext cx="41760" cy="6858000"/>
              <a:chOff x="104400" y="0"/>
              <a:chExt cx="41760" cy="6858000"/>
            </a:xfrm>
          </p:grpSpPr>
          <p:pic>
            <p:nvPicPr>
              <p:cNvPr id="347" name="Rectangle 27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"/>
              <p:cNvSpPr/>
              <p:nvPr/>
            </p:nvSpPr>
            <p:spPr>
              <a:xfrm>
                <a:off x="1198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349" name="Rectangle 28"/>
            <p:cNvGrpSpPr/>
            <p:nvPr/>
          </p:nvGrpSpPr>
          <p:grpSpPr>
            <a:xfrm>
              <a:off x="119880" y="0"/>
              <a:ext cx="46800" cy="6858000"/>
              <a:chOff x="119880" y="0"/>
              <a:chExt cx="46800" cy="6858000"/>
            </a:xfrm>
          </p:grpSpPr>
          <p:pic>
            <p:nvPicPr>
              <p:cNvPr id="350" name="Rectangle 2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"/>
              <p:cNvSpPr/>
              <p:nvPr/>
            </p:nvSpPr>
            <p:spPr>
              <a:xfrm>
                <a:off x="13716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352" name="Rectangle 29"/>
            <p:cNvGrpSpPr/>
            <p:nvPr/>
          </p:nvGrpSpPr>
          <p:grpSpPr>
            <a:xfrm>
              <a:off x="140760" y="0"/>
              <a:ext cx="41760" cy="6858000"/>
              <a:chOff x="140760" y="0"/>
              <a:chExt cx="41760" cy="6858000"/>
            </a:xfrm>
          </p:grpSpPr>
          <p:pic>
            <p:nvPicPr>
              <p:cNvPr id="353" name="Rectangle 29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"/>
              <p:cNvSpPr/>
              <p:nvPr/>
            </p:nvSpPr>
            <p:spPr>
              <a:xfrm>
                <a:off x="1544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355" name="Rectangle 30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356" name="Rectangle 30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842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7128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9414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6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7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8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77B5-038C-4CAE-9BE8-4A9D1DB4E26E}" type="slidenum"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400" name="Rectangle 20"/>
            <p:cNvGrpSpPr/>
            <p:nvPr/>
          </p:nvGrpSpPr>
          <p:grpSpPr>
            <a:xfrm>
              <a:off x="20880" y="0"/>
              <a:ext cx="57240" cy="6858000"/>
              <a:chOff x="20880" y="0"/>
              <a:chExt cx="57240" cy="6858000"/>
            </a:xfrm>
          </p:grpSpPr>
          <p:pic>
            <p:nvPicPr>
              <p:cNvPr id="401" name="Rectangl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0"/>
                <a:ext cx="57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"/>
              <p:cNvSpPr/>
              <p:nvPr/>
            </p:nvSpPr>
            <p:spPr>
              <a:xfrm>
                <a:off x="34200" y="18000"/>
                <a:ext cx="3456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03" name="Rectangle 13"/>
            <p:cNvGrpSpPr/>
            <p:nvPr/>
          </p:nvGrpSpPr>
          <p:grpSpPr>
            <a:xfrm>
              <a:off x="0" y="0"/>
              <a:ext cx="41760" cy="6858000"/>
              <a:chOff x="0" y="0"/>
              <a:chExt cx="41760" cy="6858000"/>
            </a:xfrm>
          </p:grpSpPr>
          <p:pic>
            <p:nvPicPr>
              <p:cNvPr id="40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06" name="Rectangle 15"/>
            <p:cNvGrpSpPr/>
            <p:nvPr/>
          </p:nvGrpSpPr>
          <p:grpSpPr>
            <a:xfrm>
              <a:off x="52200" y="0"/>
              <a:ext cx="41760" cy="6858000"/>
              <a:chOff x="52200" y="0"/>
              <a:chExt cx="41760" cy="6858000"/>
            </a:xfrm>
          </p:grpSpPr>
          <p:pic>
            <p:nvPicPr>
              <p:cNvPr id="407" name="Rectangl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>
                <a:off x="676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09" name="Rectangle 16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410" name="Rectangl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12" name="Rectangle 17"/>
            <p:cNvGrpSpPr/>
            <p:nvPr/>
          </p:nvGrpSpPr>
          <p:grpSpPr>
            <a:xfrm>
              <a:off x="104400" y="0"/>
              <a:ext cx="41760" cy="6858000"/>
              <a:chOff x="104400" y="0"/>
              <a:chExt cx="41760" cy="6858000"/>
            </a:xfrm>
          </p:grpSpPr>
          <p:pic>
            <p:nvPicPr>
              <p:cNvPr id="413" name="Rectangl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>
                <a:off x="1198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15" name="Rectangle 18"/>
            <p:cNvGrpSpPr/>
            <p:nvPr/>
          </p:nvGrpSpPr>
          <p:grpSpPr>
            <a:xfrm>
              <a:off x="119880" y="0"/>
              <a:ext cx="46800" cy="6858000"/>
              <a:chOff x="119880" y="0"/>
              <a:chExt cx="46800" cy="6858000"/>
            </a:xfrm>
          </p:grpSpPr>
          <p:pic>
            <p:nvPicPr>
              <p:cNvPr id="416" name="Rectangle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"/>
              <p:cNvSpPr/>
              <p:nvPr/>
            </p:nvSpPr>
            <p:spPr>
              <a:xfrm>
                <a:off x="13716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18" name="Rectangle 19"/>
            <p:cNvGrpSpPr/>
            <p:nvPr/>
          </p:nvGrpSpPr>
          <p:grpSpPr>
            <a:xfrm>
              <a:off x="140760" y="0"/>
              <a:ext cx="41760" cy="6858000"/>
              <a:chOff x="140760" y="0"/>
              <a:chExt cx="41760" cy="6858000"/>
            </a:xfrm>
          </p:grpSpPr>
          <p:pic>
            <p:nvPicPr>
              <p:cNvPr id="419" name="Rectangle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0" name=""/>
              <p:cNvSpPr/>
              <p:nvPr/>
            </p:nvSpPr>
            <p:spPr>
              <a:xfrm>
                <a:off x="1544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21" name="Rectangle 21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422" name="Rectangle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</p:grpSp>
      <p:sp>
        <p:nvSpPr>
          <p:cNvPr id="424" name="Straight Connector 22"/>
          <p:cNvSpPr/>
          <p:nvPr/>
        </p:nvSpPr>
        <p:spPr>
          <a:xfrm flipV="1">
            <a:off x="3657600" y="1676160"/>
            <a:ext cx="1440" cy="4452840"/>
          </a:xfrm>
          <a:prstGeom prst="line">
            <a:avLst/>
          </a:prstGeom>
          <a:ln w="6480">
            <a:solidFill>
              <a:srgbClr val="e0ed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842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7128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9414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9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0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1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77AF-AF14-4062-9B81-7D4A3EC69EA1}" type="slidenum"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Group 22"/>
          <p:cNvGrpSpPr/>
          <p:nvPr/>
        </p:nvGrpSpPr>
        <p:grpSpPr>
          <a:xfrm>
            <a:off x="0" y="0"/>
            <a:ext cx="182520" cy="6858000"/>
            <a:chOff x="0" y="0"/>
            <a:chExt cx="182520" cy="6858000"/>
          </a:xfrm>
        </p:grpSpPr>
        <p:grpSp>
          <p:nvGrpSpPr>
            <p:cNvPr id="467" name="Rectangle 20"/>
            <p:cNvGrpSpPr/>
            <p:nvPr/>
          </p:nvGrpSpPr>
          <p:grpSpPr>
            <a:xfrm>
              <a:off x="20880" y="0"/>
              <a:ext cx="57240" cy="6858000"/>
              <a:chOff x="20880" y="0"/>
              <a:chExt cx="57240" cy="6858000"/>
            </a:xfrm>
          </p:grpSpPr>
          <p:pic>
            <p:nvPicPr>
              <p:cNvPr id="468" name="Rectangle 20" descr=""/>
              <p:cNvPicPr/>
              <p:nvPr/>
            </p:nvPicPr>
            <p:blipFill>
              <a:blip r:embed="rId3"/>
              <a:stretch/>
            </p:blipFill>
            <p:spPr>
              <a:xfrm>
                <a:off x="20880" y="0"/>
                <a:ext cx="572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"/>
              <p:cNvSpPr/>
              <p:nvPr/>
            </p:nvSpPr>
            <p:spPr>
              <a:xfrm>
                <a:off x="34200" y="18000"/>
                <a:ext cx="3456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70" name="Rectangle 13"/>
            <p:cNvGrpSpPr/>
            <p:nvPr/>
          </p:nvGrpSpPr>
          <p:grpSpPr>
            <a:xfrm>
              <a:off x="0" y="0"/>
              <a:ext cx="41760" cy="6858000"/>
              <a:chOff x="0" y="0"/>
              <a:chExt cx="41760" cy="6858000"/>
            </a:xfrm>
          </p:grpSpPr>
          <p:pic>
            <p:nvPicPr>
              <p:cNvPr id="471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"/>
              <p:cNvSpPr/>
              <p:nvPr/>
            </p:nvSpPr>
            <p:spPr>
              <a:xfrm>
                <a:off x="154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73" name="Rectangle 15"/>
            <p:cNvGrpSpPr/>
            <p:nvPr/>
          </p:nvGrpSpPr>
          <p:grpSpPr>
            <a:xfrm>
              <a:off x="52200" y="0"/>
              <a:ext cx="41760" cy="6858000"/>
              <a:chOff x="52200" y="0"/>
              <a:chExt cx="41760" cy="6858000"/>
            </a:xfrm>
          </p:grpSpPr>
          <p:pic>
            <p:nvPicPr>
              <p:cNvPr id="474" name="Rectangl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522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>
                <a:off x="676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76" name="Rectangle 16"/>
            <p:cNvGrpSpPr/>
            <p:nvPr/>
          </p:nvGrpSpPr>
          <p:grpSpPr>
            <a:xfrm>
              <a:off x="88560" y="0"/>
              <a:ext cx="36360" cy="6858000"/>
              <a:chOff x="88560" y="0"/>
              <a:chExt cx="36360" cy="6858000"/>
            </a:xfrm>
          </p:grpSpPr>
          <p:pic>
            <p:nvPicPr>
              <p:cNvPr id="477" name="Rectangl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88560" y="0"/>
                <a:ext cx="363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102240" y="18000"/>
                <a:ext cx="1044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79" name="Rectangle 17"/>
            <p:cNvGrpSpPr/>
            <p:nvPr/>
          </p:nvGrpSpPr>
          <p:grpSpPr>
            <a:xfrm>
              <a:off x="104400" y="0"/>
              <a:ext cx="41760" cy="6858000"/>
              <a:chOff x="104400" y="0"/>
              <a:chExt cx="41760" cy="6858000"/>
            </a:xfrm>
          </p:grpSpPr>
          <p:pic>
            <p:nvPicPr>
              <p:cNvPr id="480" name="Rectangle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40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"/>
              <p:cNvSpPr/>
              <p:nvPr/>
            </p:nvSpPr>
            <p:spPr>
              <a:xfrm>
                <a:off x="11988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82" name="Rectangle 18"/>
            <p:cNvGrpSpPr/>
            <p:nvPr/>
          </p:nvGrpSpPr>
          <p:grpSpPr>
            <a:xfrm>
              <a:off x="119880" y="0"/>
              <a:ext cx="46800" cy="6858000"/>
              <a:chOff x="119880" y="0"/>
              <a:chExt cx="46800" cy="6858000"/>
            </a:xfrm>
          </p:grpSpPr>
          <p:pic>
            <p:nvPicPr>
              <p:cNvPr id="483" name="Rectangle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0"/>
                <a:ext cx="468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>
                <a:off x="13716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85" name="Rectangle 19"/>
            <p:cNvGrpSpPr/>
            <p:nvPr/>
          </p:nvGrpSpPr>
          <p:grpSpPr>
            <a:xfrm>
              <a:off x="140760" y="0"/>
              <a:ext cx="41760" cy="6858000"/>
              <a:chOff x="140760" y="0"/>
              <a:chExt cx="41760" cy="6858000"/>
            </a:xfrm>
          </p:grpSpPr>
          <p:pic>
            <p:nvPicPr>
              <p:cNvPr id="486" name="Rectangle 19" descr=""/>
              <p:cNvPicPr/>
              <p:nvPr/>
            </p:nvPicPr>
            <p:blipFill>
              <a:blip r:embed="rId9"/>
              <a:stretch/>
            </p:blipFill>
            <p:spPr>
              <a:xfrm>
                <a:off x="1407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1544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  <p:grpSp>
          <p:nvGrpSpPr>
            <p:cNvPr id="488" name="Rectangle 21"/>
            <p:cNvGrpSpPr/>
            <p:nvPr/>
          </p:nvGrpSpPr>
          <p:grpSpPr>
            <a:xfrm>
              <a:off x="36360" y="0"/>
              <a:ext cx="41760" cy="6858000"/>
              <a:chOff x="36360" y="0"/>
              <a:chExt cx="41760" cy="6858000"/>
            </a:xfrm>
          </p:grpSpPr>
          <p:pic>
            <p:nvPicPr>
              <p:cNvPr id="489" name="Rectangle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360" y="0"/>
                <a:ext cx="417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50040" y="18000"/>
                <a:ext cx="17280" cy="682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Lucida Console"/>
                </a:endParaRPr>
              </a:p>
            </p:txBody>
          </p:sp>
        </p:grpSp>
      </p:grpSp>
      <p:sp>
        <p:nvSpPr>
          <p:cNvPr id="491" name="Straight Connector 22"/>
          <p:cNvSpPr/>
          <p:nvPr/>
        </p:nvSpPr>
        <p:spPr>
          <a:xfrm flipV="1">
            <a:off x="3657600" y="1676160"/>
            <a:ext cx="1440" cy="4452840"/>
          </a:xfrm>
          <a:prstGeom prst="line">
            <a:avLst/>
          </a:prstGeom>
          <a:ln w="6480">
            <a:solidFill>
              <a:srgbClr val="e0ed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80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842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7128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941400" indent="-228600">
              <a:spcBef>
                <a:spcPts val="1500"/>
              </a:spcBef>
              <a:buClr>
                <a:srgbClr val="e0ed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700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22"/>
          </p:nvPr>
        </p:nvSpPr>
        <p:spPr>
          <a:xfrm>
            <a:off x="1231560" y="6508800"/>
            <a:ext cx="21337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23"/>
          </p:nvPr>
        </p:nvSpPr>
        <p:spPr>
          <a:xfrm>
            <a:off x="5714640" y="6508800"/>
            <a:ext cx="289548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24"/>
          </p:nvPr>
        </p:nvSpPr>
        <p:spPr>
          <a:xfrm>
            <a:off x="8674200" y="6508800"/>
            <a:ext cx="45720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e0ed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C10D-DBEC-4C5B-B0D2-1EBD157B41B6}" type="slidenum">
              <a:rPr b="1" lang="en-US" sz="900" spc="-1" strike="noStrike">
                <a:solidFill>
                  <a:srgbClr val="e0edf8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fairviewhigh.booksys.net/opac/fairviewhigh/index.html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library.jefcoed.com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Title 1"/>
          <p:cNvGrpSpPr/>
          <p:nvPr/>
        </p:nvGrpSpPr>
        <p:grpSpPr>
          <a:xfrm>
            <a:off x="743040" y="3260880"/>
            <a:ext cx="7999200" cy="1963440"/>
            <a:chOff x="743040" y="3260880"/>
            <a:chExt cx="7999200" cy="1963440"/>
          </a:xfrm>
        </p:grpSpPr>
        <p:pic>
          <p:nvPicPr>
            <p:cNvPr id="541" name="Title 1" descr=""/>
            <p:cNvPicPr/>
            <p:nvPr/>
          </p:nvPicPr>
          <p:blipFill>
            <a:blip r:embed="rId1"/>
            <a:stretch/>
          </p:blipFill>
          <p:spPr>
            <a:xfrm>
              <a:off x="743040" y="3260880"/>
              <a:ext cx="7999200" cy="19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"/>
            <p:cNvSpPr/>
            <p:nvPr/>
          </p:nvSpPr>
          <p:spPr>
            <a:xfrm>
              <a:off x="762120" y="3276720"/>
              <a:ext cx="7968960" cy="19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Lucida Sans Unicode"/>
                </a:rPr>
                <a:t>Library Automation Upgrade</a:t>
              </a:r>
              <a:br>
                <a:rPr sz="4000"/>
              </a:br>
              <a:r>
                <a:rPr b="1" lang="en-US" sz="4000" spc="-1" strike="noStrike">
                  <a:solidFill>
                    <a:srgbClr val="ffffff"/>
                  </a:solidFill>
                  <a:latin typeface="Lucida Sans Unicode"/>
                </a:rPr>
                <a:t>Proposal</a:t>
              </a:r>
              <a:endParaRPr b="0" lang="en-US" sz="40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543" name="Rectangle 4"/>
          <p:cNvSpPr/>
          <p:nvPr/>
        </p:nvSpPr>
        <p:spPr>
          <a:xfrm>
            <a:off x="2666880" y="5673600"/>
            <a:ext cx="315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y Pat Henderson</a:t>
            </a:r>
            <a:endParaRPr b="0" lang="en-US" sz="2000" spc="-1" strike="noStrike">
              <a:solidFill>
                <a:srgbClr val="ffffff"/>
              </a:solidFill>
              <a:latin typeface="Lucida Console"/>
            </a:endParaRPr>
          </a:p>
        </p:txBody>
      </p:sp>
    </p:spTree>
  </p:cSld>
  <p:transition advTm="2000"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Title 1"/>
          <p:cNvGrpSpPr/>
          <p:nvPr/>
        </p:nvGrpSpPr>
        <p:grpSpPr>
          <a:xfrm>
            <a:off x="1163520" y="255600"/>
            <a:ext cx="7529760" cy="1176480"/>
            <a:chOff x="1163520" y="255600"/>
            <a:chExt cx="7529760" cy="1176480"/>
          </a:xfrm>
        </p:grpSpPr>
        <p:pic>
          <p:nvPicPr>
            <p:cNvPr id="582" name="Title 1" descr=""/>
            <p:cNvPicPr/>
            <p:nvPr/>
          </p:nvPicPr>
          <p:blipFill>
            <a:blip r:embed="rId1"/>
            <a:stretch/>
          </p:blipFill>
          <p:spPr>
            <a:xfrm>
              <a:off x="1163520" y="255600"/>
              <a:ext cx="75297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Atriuum--Cons</a:t>
              </a:r>
              <a:endParaRPr b="0" lang="en-US" sz="3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584" name=""/>
          <p:cNvSpPr txBox="1"/>
          <p:nvPr/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ime consideration to install in schoo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ust add to tech budg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plementation in summ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2000">
    <p:pull dir="lu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0" dur="2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Title 1"/>
          <p:cNvGrpSpPr/>
          <p:nvPr/>
        </p:nvGrpSpPr>
        <p:grpSpPr>
          <a:xfrm>
            <a:off x="1163520" y="255600"/>
            <a:ext cx="7529760" cy="1176480"/>
            <a:chOff x="1163520" y="255600"/>
            <a:chExt cx="7529760" cy="1176480"/>
          </a:xfrm>
        </p:grpSpPr>
        <p:pic>
          <p:nvPicPr>
            <p:cNvPr id="586" name="Title 1" descr=""/>
            <p:cNvPicPr/>
            <p:nvPr/>
          </p:nvPicPr>
          <p:blipFill>
            <a:blip r:embed="rId1"/>
            <a:stretch/>
          </p:blipFill>
          <p:spPr>
            <a:xfrm>
              <a:off x="1163520" y="255600"/>
              <a:ext cx="75297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Schools in Action</a:t>
              </a:r>
              <a:endParaRPr b="0" lang="en-US" sz="3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588" name=""/>
          <p:cNvSpPr txBox="1"/>
          <p:nvPr/>
        </p:nvSpPr>
        <p:spPr>
          <a:xfrm>
            <a:off x="761760" y="18288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ugust 14, 2006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ook Systems, Inc. successfully implemented its’ Atriuum product, a 100 percent Web-based library automation solution, to 153 library media centers in the Memphis City School District, Memphis, TN. 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876560" y="1828800"/>
            <a:ext cx="3593880" cy="46483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ugust 6, 2008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ook Systems is implementing its Atriuum Library Automation System, a 100 percent Web-based library automation solution, in the 54 school library media centers and the Central Office Instructional Materials Center (IMC) in Jefferson County School District, Birmingham, A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5000">
    <p:pull dir="lu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Title 1"/>
          <p:cNvGrpSpPr/>
          <p:nvPr/>
        </p:nvGrpSpPr>
        <p:grpSpPr>
          <a:xfrm>
            <a:off x="1163520" y="255600"/>
            <a:ext cx="7529760" cy="1176480"/>
            <a:chOff x="1163520" y="255600"/>
            <a:chExt cx="7529760" cy="1176480"/>
          </a:xfrm>
        </p:grpSpPr>
        <p:pic>
          <p:nvPicPr>
            <p:cNvPr id="591" name="Title 1" descr=""/>
            <p:cNvPicPr/>
            <p:nvPr/>
          </p:nvPicPr>
          <p:blipFill>
            <a:blip r:embed="rId1"/>
            <a:stretch/>
          </p:blipFill>
          <p:spPr>
            <a:xfrm>
              <a:off x="1163520" y="255600"/>
              <a:ext cx="75297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Take a look</a:t>
              </a:r>
              <a:br>
                <a:rPr sz="3600"/>
              </a:b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Online catalog -- HS</a:t>
              </a:r>
              <a:endParaRPr b="0" lang="en-US" sz="3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593" name=""/>
          <p:cNvSpPr txBox="1"/>
          <p:nvPr/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286d2"/>
                </a:solidFill>
                <a:uFillTx/>
                <a:latin typeface="Verdana"/>
                <a:hlinkClick r:id="rId2"/>
              </a:rPr>
              <a:t>http://fairviewhigh.booksys.net/opac/fairviewhigh/index.htm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irview High School, Cullman, 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Title 4"/>
          <p:cNvGrpSpPr/>
          <p:nvPr/>
        </p:nvGrpSpPr>
        <p:grpSpPr>
          <a:xfrm>
            <a:off x="1163520" y="255600"/>
            <a:ext cx="7529760" cy="1176480"/>
            <a:chOff x="1163520" y="255600"/>
            <a:chExt cx="7529760" cy="1176480"/>
          </a:xfrm>
        </p:grpSpPr>
        <p:pic>
          <p:nvPicPr>
            <p:cNvPr id="595" name="Title 4" descr=""/>
            <p:cNvPicPr/>
            <p:nvPr/>
          </p:nvPicPr>
          <p:blipFill>
            <a:blip r:embed="rId1"/>
            <a:stretch/>
          </p:blipFill>
          <p:spPr>
            <a:xfrm>
              <a:off x="1163520" y="255600"/>
              <a:ext cx="75297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Take a look</a:t>
              </a:r>
              <a:br>
                <a:rPr sz="3600"/>
              </a:b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Online catalog -- elementary</a:t>
              </a:r>
              <a:endParaRPr b="0" lang="en-US" sz="3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597" name=""/>
          <p:cNvSpPr txBox="1"/>
          <p:nvPr/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286d2"/>
                </a:solidFill>
                <a:uFillTx/>
                <a:latin typeface="Verdana"/>
                <a:hlinkClick r:id="rId2"/>
              </a:rPr>
              <a:t>http://library.jefcoed.com/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efferson County School District Birmingham, 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Title 1"/>
          <p:cNvGrpSpPr/>
          <p:nvPr/>
        </p:nvGrpSpPr>
        <p:grpSpPr>
          <a:xfrm>
            <a:off x="743040" y="171360"/>
            <a:ext cx="7883280" cy="1273320"/>
            <a:chOff x="743040" y="171360"/>
            <a:chExt cx="7883280" cy="1273320"/>
          </a:xfrm>
        </p:grpSpPr>
        <p:pic>
          <p:nvPicPr>
            <p:cNvPr id="599" name="Title 1" descr=""/>
            <p:cNvPicPr/>
            <p:nvPr/>
          </p:nvPicPr>
          <p:blipFill>
            <a:blip r:embed="rId1"/>
            <a:stretch/>
          </p:blipFill>
          <p:spPr>
            <a:xfrm>
              <a:off x="743040" y="171360"/>
              <a:ext cx="788328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762120" y="189000"/>
              <a:ext cx="784836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Why is information lookup important?</a:t>
              </a:r>
              <a:endParaRPr b="0" lang="en-US" sz="3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601" name=""/>
          <p:cNvSpPr txBox="1"/>
          <p:nvPr/>
        </p:nvSpPr>
        <p:spPr>
          <a:xfrm>
            <a:off x="3657240" y="1371240"/>
            <a:ext cx="4800600" cy="47545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formation seeking skills tie into research and critical thin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bility to locate information ties into research and problem solv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lookup is not quick, student gives u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lookup is not flexible, student gives u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2743200" cy="35049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03" name="Picture 2" descr="C:\Documents and Settings\Owner\My Documents\My Pictures\Microsoft Clip Organizer\j0438910.jpg"/>
          <p:cNvPicPr/>
          <p:nvPr/>
        </p:nvPicPr>
        <p:blipFill>
          <a:blip r:embed="rId2"/>
          <a:stretch/>
        </p:blipFill>
        <p:spPr>
          <a:xfrm>
            <a:off x="533520" y="2133720"/>
            <a:ext cx="2971800" cy="2136600"/>
          </a:xfrm>
          <a:prstGeom prst="rect">
            <a:avLst/>
          </a:prstGeom>
          <a:ln w="0">
            <a:noFill/>
          </a:ln>
        </p:spPr>
      </p:pic>
    </p:spTree>
  </p:cSld>
  <p:transition advTm="5000">
    <p:pull dir="l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Title 1"/>
          <p:cNvGrpSpPr/>
          <p:nvPr/>
        </p:nvGrpSpPr>
        <p:grpSpPr>
          <a:xfrm>
            <a:off x="1163520" y="255600"/>
            <a:ext cx="7529760" cy="1176480"/>
            <a:chOff x="1163520" y="255600"/>
            <a:chExt cx="7529760" cy="1176480"/>
          </a:xfrm>
        </p:grpSpPr>
        <p:pic>
          <p:nvPicPr>
            <p:cNvPr id="605" name="Title 1" descr=""/>
            <p:cNvPicPr/>
            <p:nvPr/>
          </p:nvPicPr>
          <p:blipFill>
            <a:blip r:embed="rId1"/>
            <a:stretch/>
          </p:blipFill>
          <p:spPr>
            <a:xfrm>
              <a:off x="1163520" y="255600"/>
              <a:ext cx="75297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Recommendation</a:t>
              </a:r>
              <a:endParaRPr b="0" lang="en-US" sz="3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607" name=""/>
          <p:cNvSpPr txBox="1"/>
          <p:nvPr/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tailed cost analysis of implementation in 3 schools in one y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tailed cost analysis of implementation in 5 schools over two yea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ider the cost of inaction, to staff and stud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5000">
    <p:pull dir="l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6261"/>
                                      </p:to>
                                    </p:animClr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6261"/>
                                      </p:to>
                                    </p:animClr>
                                    <p:set>
                                      <p:cBhvr>
                                        <p:cTn id="268" dur="5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6261"/>
                                      </p:to>
                                    </p:animClr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6261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b6261"/>
                                      </p:to>
                                    </p:animClr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b6261"/>
                                      </p:to>
                                    </p:animClr>
                                    <p:set>
                                      <p:cBhvr>
                                        <p:cTn id="278" dur="5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Title 1"/>
          <p:cNvGrpSpPr/>
          <p:nvPr/>
        </p:nvGrpSpPr>
        <p:grpSpPr>
          <a:xfrm>
            <a:off x="1163520" y="255600"/>
            <a:ext cx="7529760" cy="1176480"/>
            <a:chOff x="1163520" y="255600"/>
            <a:chExt cx="7529760" cy="1176480"/>
          </a:xfrm>
        </p:grpSpPr>
        <p:pic>
          <p:nvPicPr>
            <p:cNvPr id="545" name="Title 1" descr=""/>
            <p:cNvPicPr/>
            <p:nvPr/>
          </p:nvPicPr>
          <p:blipFill>
            <a:blip r:embed="rId1"/>
            <a:stretch/>
          </p:blipFill>
          <p:spPr>
            <a:xfrm>
              <a:off x="1163520" y="255600"/>
              <a:ext cx="75297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Our Need</a:t>
              </a:r>
              <a:endParaRPr b="0" lang="en-US" sz="3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547" name=""/>
          <p:cNvSpPr txBox="1"/>
          <p:nvPr/>
        </p:nvSpPr>
        <p:spPr>
          <a:xfrm>
            <a:off x="1317240" y="1371600"/>
            <a:ext cx="7224840" cy="49528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3,451 student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5 schools in district, 2 on Infocentre, 3 on Winnebago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3 elementary schools using outdated system, Winnebago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1 elementary school does not have catalog module at all (no book look up)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1 elementary school does not have student lookup computer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udent look up is essential to gaining skills toward information fluency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3000"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Title 1"/>
          <p:cNvGrpSpPr/>
          <p:nvPr/>
        </p:nvGrpSpPr>
        <p:grpSpPr>
          <a:xfrm>
            <a:off x="1163520" y="255600"/>
            <a:ext cx="7529760" cy="1176480"/>
            <a:chOff x="1163520" y="255600"/>
            <a:chExt cx="7529760" cy="1176480"/>
          </a:xfrm>
        </p:grpSpPr>
        <p:pic>
          <p:nvPicPr>
            <p:cNvPr id="549" name="Title 1" descr=""/>
            <p:cNvPicPr/>
            <p:nvPr/>
          </p:nvPicPr>
          <p:blipFill>
            <a:blip r:embed="rId1"/>
            <a:stretch/>
          </p:blipFill>
          <p:spPr>
            <a:xfrm>
              <a:off x="1163520" y="255600"/>
              <a:ext cx="75297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Our focus is elementary </a:t>
              </a:r>
              <a:endParaRPr b="0" lang="en-US" sz="3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551" name=""/>
          <p:cNvSpPr txBox="1"/>
          <p:nvPr/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ee schools house the majority of our collection = 43,000 holding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se schools are using a 12-year-old sys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ree schools serve the most of our students 1,7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4000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Title 1"/>
          <p:cNvGrpSpPr/>
          <p:nvPr/>
        </p:nvGrpSpPr>
        <p:grpSpPr>
          <a:xfrm>
            <a:off x="1163520" y="255600"/>
            <a:ext cx="7529760" cy="1176480"/>
            <a:chOff x="1163520" y="255600"/>
            <a:chExt cx="7529760" cy="1176480"/>
          </a:xfrm>
        </p:grpSpPr>
        <p:pic>
          <p:nvPicPr>
            <p:cNvPr id="553" name="Title 1" descr=""/>
            <p:cNvPicPr/>
            <p:nvPr/>
          </p:nvPicPr>
          <p:blipFill>
            <a:blip r:embed="rId1"/>
            <a:stretch/>
          </p:blipFill>
          <p:spPr>
            <a:xfrm>
              <a:off x="1163520" y="255600"/>
              <a:ext cx="75297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Consequences</a:t>
              </a:r>
              <a:endParaRPr b="0" lang="en-US" sz="3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555" name=""/>
          <p:cNvSpPr txBox="1"/>
          <p:nvPr/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face eventual system crash due to age of sys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are not prepared to recover from disas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are not adequately preparing elementary students to do independent research as required in middle schoo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 are pressured to teach more skills in middle schoo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5000">
    <p:pull dir="l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Title 1"/>
          <p:cNvGrpSpPr/>
          <p:nvPr/>
        </p:nvGrpSpPr>
        <p:grpSpPr>
          <a:xfrm>
            <a:off x="1163520" y="171360"/>
            <a:ext cx="3036960" cy="1273320"/>
            <a:chOff x="1163520" y="171360"/>
            <a:chExt cx="3036960" cy="1273320"/>
          </a:xfrm>
        </p:grpSpPr>
        <p:pic>
          <p:nvPicPr>
            <p:cNvPr id="557" name="Title 1" descr=""/>
            <p:cNvPicPr/>
            <p:nvPr/>
          </p:nvPicPr>
          <p:blipFill>
            <a:blip r:embed="rId1"/>
            <a:stretch/>
          </p:blipFill>
          <p:spPr>
            <a:xfrm>
              <a:off x="1163520" y="171360"/>
              <a:ext cx="3036960" cy="12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1182600" y="189000"/>
              <a:ext cx="3008520" cy="12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Lucida Sans Unicode"/>
                </a:rPr>
                <a:t>Current system</a:t>
              </a:r>
              <a:endParaRPr b="0" lang="en-US" sz="2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559" name=""/>
          <p:cNvSpPr txBox="1"/>
          <p:nvPr/>
        </p:nvSpPr>
        <p:spPr>
          <a:xfrm>
            <a:off x="3657600" y="1676520"/>
            <a:ext cx="4952880" cy="44496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lett/Spectrum Winnebag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stalled in 1996, service contract moved from Spectrum to Sagebrush to Follett, and is no longer support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stalled on three servers, one for each elementary sch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 schools have full circulation and catalog modules, 1 has circulation on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1182600" y="1676160"/>
            <a:ext cx="2246400" cy="3276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1" name="Picture 1" descr="C:\Documents and Settings\Owner\Local Settings\Temporary Internet Files\Content.IE5\XIL2UD5C\MPj04330850000[1].jpg"/>
          <p:cNvPicPr/>
          <p:nvPr/>
        </p:nvPicPr>
        <p:blipFill>
          <a:blip r:embed="rId2"/>
          <a:stretch/>
        </p:blipFill>
        <p:spPr>
          <a:xfrm>
            <a:off x="1219320" y="2209680"/>
            <a:ext cx="2133360" cy="2133720"/>
          </a:xfrm>
          <a:prstGeom prst="rect">
            <a:avLst/>
          </a:prstGeom>
          <a:ln w="0">
            <a:noFill/>
          </a:ln>
        </p:spPr>
      </p:pic>
    </p:spTree>
  </p:cSld>
  <p:transition advTm="4000">
    <p:pull dir="r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Title 1"/>
          <p:cNvGrpSpPr/>
          <p:nvPr/>
        </p:nvGrpSpPr>
        <p:grpSpPr>
          <a:xfrm>
            <a:off x="1163520" y="255600"/>
            <a:ext cx="7529760" cy="1176480"/>
            <a:chOff x="1163520" y="255600"/>
            <a:chExt cx="7529760" cy="1176480"/>
          </a:xfrm>
        </p:grpSpPr>
        <p:pic>
          <p:nvPicPr>
            <p:cNvPr id="563" name="Title 1" descr=""/>
            <p:cNvPicPr/>
            <p:nvPr/>
          </p:nvPicPr>
          <p:blipFill>
            <a:blip r:embed="rId1"/>
            <a:stretch/>
          </p:blipFill>
          <p:spPr>
            <a:xfrm>
              <a:off x="1163520" y="255600"/>
              <a:ext cx="75297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Winnebago--Pros</a:t>
              </a:r>
              <a:endParaRPr b="0" lang="en-US" sz="3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565" name=""/>
          <p:cNvSpPr txBox="1"/>
          <p:nvPr/>
        </p:nvSpPr>
        <p:spPr>
          <a:xfrm>
            <a:off x="1317240" y="1734840"/>
            <a:ext cx="7224840" cy="423540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indows interface screen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sic search capabilities (title, author, keyword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nted user's manual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ndles basic circulation duties and provides printed report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ows records import with internet acces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3000">
    <p:randomBar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Title 1"/>
          <p:cNvGrpSpPr/>
          <p:nvPr/>
        </p:nvGrpSpPr>
        <p:grpSpPr>
          <a:xfrm>
            <a:off x="1163520" y="255600"/>
            <a:ext cx="7529760" cy="1176480"/>
            <a:chOff x="1163520" y="255600"/>
            <a:chExt cx="7529760" cy="1176480"/>
          </a:xfrm>
        </p:grpSpPr>
        <p:pic>
          <p:nvPicPr>
            <p:cNvPr id="567" name="Title 1" descr=""/>
            <p:cNvPicPr/>
            <p:nvPr/>
          </p:nvPicPr>
          <p:blipFill>
            <a:blip r:embed="rId1"/>
            <a:stretch/>
          </p:blipFill>
          <p:spPr>
            <a:xfrm>
              <a:off x="1163520" y="255600"/>
              <a:ext cx="75297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Winnebago--Cons</a:t>
              </a:r>
              <a:endParaRPr b="0" lang="en-US" sz="3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569" name=""/>
          <p:cNvSpPr txBox="1"/>
          <p:nvPr/>
        </p:nvSpPr>
        <p:spPr>
          <a:xfrm>
            <a:off x="1317600" y="1218960"/>
            <a:ext cx="7445520" cy="563868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o upgrades available and no systems support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o serials or acquisitions functionality, and no separate products available as add-on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ifficult data input on Quick Entry screen which has the basic fields (author, title, publisher, subject, etc.)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o web access available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ext only screens, no book cover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tudent records must be physically added, resulting in one month of no access at start of yea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nventory process makes library inaccessible for one month at end of yea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ay be accessed from library computers only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6000"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Title 1"/>
          <p:cNvGrpSpPr/>
          <p:nvPr/>
        </p:nvGrpSpPr>
        <p:grpSpPr>
          <a:xfrm>
            <a:off x="1200240" y="285840"/>
            <a:ext cx="7529400" cy="1177920"/>
            <a:chOff x="1200240" y="285840"/>
            <a:chExt cx="7529400" cy="1177920"/>
          </a:xfrm>
        </p:grpSpPr>
        <p:pic>
          <p:nvPicPr>
            <p:cNvPr id="571" name="Title 1" descr=""/>
            <p:cNvPicPr/>
            <p:nvPr/>
          </p:nvPicPr>
          <p:blipFill>
            <a:blip r:embed="rId1"/>
            <a:stretch/>
          </p:blipFill>
          <p:spPr>
            <a:xfrm>
              <a:off x="1200240" y="285840"/>
              <a:ext cx="752940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"/>
            <p:cNvSpPr/>
            <p:nvPr/>
          </p:nvSpPr>
          <p:spPr>
            <a:xfrm>
              <a:off x="1219320" y="30492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Proposed system</a:t>
              </a:r>
              <a:endParaRPr b="0" lang="en-US" sz="3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573" name=""/>
          <p:cNvSpPr txBox="1"/>
          <p:nvPr/>
        </p:nvSpPr>
        <p:spPr>
          <a:xfrm>
            <a:off x="685440" y="1752480"/>
            <a:ext cx="5181480" cy="38102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triuum by Book Systems, In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ed by numerous school systems across the US, including Rockland, M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5943600" y="1828800"/>
            <a:ext cx="2527200" cy="4114800"/>
          </a:xfrm>
          <a:prstGeom prst="rect">
            <a:avLst/>
          </a:prstGeom>
          <a:ln w="0">
            <a:noFill/>
          </a:ln>
        </p:spPr>
      </p:pic>
      <p:sp>
        <p:nvSpPr>
          <p:cNvPr id="57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Console"/>
            </a:endParaRPr>
          </a:p>
        </p:txBody>
      </p:sp>
      <p:pic>
        <p:nvPicPr>
          <p:cNvPr id="576" name="Picture 3" descr="C:\Documents and Settings\Owner\Local Settings\Temporary Internet Files\Content.IE5\XIL2UD5C\MPj04331810000[1].jpg"/>
          <p:cNvPicPr/>
          <p:nvPr/>
        </p:nvPicPr>
        <p:blipFill>
          <a:blip r:embed="rId3"/>
          <a:stretch/>
        </p:blipFill>
        <p:spPr>
          <a:xfrm>
            <a:off x="6248520" y="19051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l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Title 1"/>
          <p:cNvGrpSpPr/>
          <p:nvPr/>
        </p:nvGrpSpPr>
        <p:grpSpPr>
          <a:xfrm>
            <a:off x="1163520" y="255600"/>
            <a:ext cx="7529760" cy="1176480"/>
            <a:chOff x="1163520" y="255600"/>
            <a:chExt cx="7529760" cy="1176480"/>
          </a:xfrm>
        </p:grpSpPr>
        <p:pic>
          <p:nvPicPr>
            <p:cNvPr id="578" name="Title 1" descr=""/>
            <p:cNvPicPr/>
            <p:nvPr/>
          </p:nvPicPr>
          <p:blipFill>
            <a:blip r:embed="rId1"/>
            <a:stretch/>
          </p:blipFill>
          <p:spPr>
            <a:xfrm>
              <a:off x="1163520" y="255600"/>
              <a:ext cx="75297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181160" y="274680"/>
              <a:ext cx="7497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182880" tIns="182880" bIns="182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Lucida Sans Unicode"/>
                </a:rPr>
                <a:t>Atriuum--Pros</a:t>
              </a:r>
              <a:endParaRPr b="0" lang="en-US" sz="3600" spc="-1" strike="noStrike">
                <a:solidFill>
                  <a:srgbClr val="ffffff"/>
                </a:solidFill>
                <a:latin typeface="Lucida Console"/>
              </a:endParaRPr>
            </a:p>
          </p:txBody>
        </p:sp>
      </p:grpSp>
      <p:sp>
        <p:nvSpPr>
          <p:cNvPr id="580" name=""/>
          <p:cNvSpPr txBox="1"/>
          <p:nvPr/>
        </p:nvSpPr>
        <p:spPr>
          <a:xfrm>
            <a:off x="1066680" y="1219320"/>
            <a:ext cx="7475760" cy="5333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182880" bIns="182880" anchor="t">
            <a:normAutofit/>
          </a:bodyPr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nstallation support and training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Multiple lookup capabilities including advanced search (subject, ISBN, illustrator, series title, Dewey)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ext and pictures (book covers) for easy recognition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ignificant time savings for cataloging due to ISBN recognition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ata conversion experience with Winnebag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Customizable OPAC theme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Visual search mode with pictur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255600" indent="-22860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Ability to connect to public library system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advTm="7000">
    <p:pull dir="l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2T01:22:20Z</dcterms:created>
  <dc:creator>Pat Henderson</dc:creator>
  <dc:description/>
  <dc:language>en-US</dc:language>
  <cp:lastModifiedBy>Pat Henderson</cp:lastModifiedBy>
  <dcterms:modified xsi:type="dcterms:W3CDTF">2009-05-04T00:01:23Z</dcterms:modified>
  <cp:revision>105</cp:revision>
  <dc:subject/>
  <dc:title>Library Automation Proposal to upgrade to Atriuum</dc:title>
</cp:coreProperties>
</file>